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27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78CF-0032-48EA-899F-EE66A0CBA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E501-781C-48FE-912C-F6C1C70EDD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7C30-6213-4D12-AB22-A0A18E9697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CB97-24DD-40BC-A8C0-06269CDE1B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478A-9769-47AA-A6BB-EBB6771D7D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7D9C-5743-42E7-A329-0B5541E71D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K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99A2-84DB-4FEA-B811-BCFB73909A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35AC-A056-43CC-9A70-86D83621A0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F323-C1C0-4D3D-99E9-FB415EA772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3831-2937-4AAA-9B27-6B0AA67700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D10D-6ADC-4B4D-A2F4-DC597620AC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F3E4-D310-4FB1-99AF-1D9B6F73CD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AC38-6663-4F16-B388-637E16A782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09D0-2383-4BB3-891A-78316F5C1F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A0B4-AA4B-47B4-A7EE-7B377C49EF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AB1-543E-4A12-BB6F-927E64B6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358-BD03-42D3-97D9-98BA5694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218-293E-4683-9306-6DBADE8A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F70-F954-458E-ADF9-F0A5E9E4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634A-6A9C-4C6E-9BC2-92516E92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3809-5286-4FC2-9222-2F650BA7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5D8A-F5FD-462A-A488-D1367BAB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4FD5-E125-4D80-AC7B-23160B11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2190-931D-494B-A58E-3A48FEDA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44E3-35F6-4346-B289-B6926971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7770-DF2B-45B6-A40C-4C7FD2B3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D11-258A-47DB-AC3B-1E2BE3B4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17D6-E249-4135-95C2-9660311A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5709-E697-497D-8951-80DE1C6B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AD8B-5510-4446-839F-CA56DDCE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3E3C-AFFE-42C9-A5A2-243904E4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2C2B-8053-4AE4-901E-66E13870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D8C3-46D0-4EBC-810D-58DBD4CF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E7BA-405F-4C0B-8587-EA99BFFC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BC84-62D9-4E0C-9C4F-7BA22A0C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7E0AC-A800-4C1A-8FAA-6BF609AA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A8CA-6A8F-4E7E-BF25-E317285B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554-93E0-448A-BC28-47E4B067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1CCF-678C-4D7E-B3EE-81E60560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B725-9509-49A6-8929-CE6857E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A2DF-6625-41FB-83B5-5371B3CB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07B71-C111-4271-BAEC-26FF24E3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2693-6E14-4ABB-AA3C-E5935635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D1315-F912-494F-BD46-4A2FDBE0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8DEE-3856-4728-B3A2-E1645DD8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5251B-A466-4D0D-90A4-96361A66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A2493-46E1-4FE0-B0A4-CE714089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0208-6A64-4CEF-BB52-72E0A426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3D1-EBD7-4EC0-834E-CFA95B7A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D9B1-A33A-4B1B-B679-C2159C9E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A4EFB-F4AD-474F-AF4E-A18B5016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EB89F-EFF6-4B3D-B05F-B6ABEE79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02594-2610-40C6-A7A6-D1732ED1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D1660-C0B3-458D-9691-920F3654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A16F-44B6-461D-A20C-D422725F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BA07-D7EE-4638-B47A-489AC188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3BE90-4646-40C6-9267-AB896078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E032-0C15-4081-BCC3-2C9B8B51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5CB1-7F05-46BC-BAE6-7C16B853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BD5-9046-415A-BD88-36E123FD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B0A97-7FBD-4F12-997F-951A235E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C32DA-3517-424E-8071-079976CE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02F9F-39A0-4FCD-B943-9E7CA72E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66054-3FDB-4937-BA3C-9033B6CD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77E35-3B18-4DCA-8957-217EB6BE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0797-F4BC-4184-AABA-8CA4DE26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2A6B7-33F4-4C28-BB41-EABF95A8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1E44-A48C-4BA4-8EA4-90B4FAB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8D82D-15CD-4347-84EB-68C0D11D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ADE1-6291-4762-B29A-C2380687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A98-30ED-4F5D-83E7-8E48837A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F77EC-0E10-4930-AF52-9B513281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E195C-CC24-46AB-A7EB-75176E3B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803F2-CE53-44B8-AE2A-DD586A1E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31D8-4F93-4E9E-8864-CDAF9020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EFB33-88E1-4BB8-B7A7-ACDE03C7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05700-4E2C-4160-9565-896EABB3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BA568-DB2E-4733-B0DE-CE040AAF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47579-63B1-4ED5-81F4-B5AFB62F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86ED9-FF20-4827-98D6-51E6ADF2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20A0B-7E83-44A0-8517-559020E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B30-C633-4680-A835-E5CDF20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A7369-CB48-4201-AF9C-9AA385B5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817C4-52A6-4D67-8D06-4C082CBB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DB130-064E-4B2B-B938-FE0BC8C4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8B24C-66A1-4A6D-9943-B9171870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29AC-0F68-42EA-8463-3E841BD4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12165-DA18-4DDA-8285-963B6579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AA1A4-3A4D-4986-BEE2-1ED32921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169FE-AD5E-4C1F-8E95-A1D727F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3F3E4-2063-48A9-9358-EEDAC585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70DB3-8E28-4A25-8E61-74E609C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F27-4E7E-431D-995E-BD213B1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12FCD-805D-4953-A677-A7A22E64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F4F6C-F421-49CF-AE4C-965D164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F50C7-72E4-4059-AB2B-28798811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C1ECD-6CE2-4E24-879E-374B3354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67B61-4C33-46CC-97D9-7E615A3F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E0C-D5CC-4D06-8D8E-9797719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D3DB-B388-4882-BFA5-CD7FED8E27D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DA31-8CD1-4F73-8752-193F5C488164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E525-B4D8-4C4F-9294-69A212BB458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1C2C-2E87-479E-83E5-C42D6CEA5729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AB5A-E7DD-4713-B5E0-DE326F9311D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65CD-969A-4C14-BC26-651F9598B6C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34C9-0FA5-4061-AF37-40CC34A34EFB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396720" y="2170080"/>
            <a:ext cx="8313840" cy="3859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www.worldofstock.com/slides/BTE1563.jpg"/>
          <p:cNvPicPr/>
          <p:nvPr/>
        </p:nvPicPr>
        <p:blipFill>
          <a:blip r:embed="rId3"/>
          <a:stretch/>
        </p:blipFill>
        <p:spPr>
          <a:xfrm>
            <a:off x="1066680" y="914400"/>
            <a:ext cx="4762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http://chipdesignmag.com/images/2010/February-March_2010/FEATURE1_FIG7.jpg"/>
          <p:cNvPicPr/>
          <p:nvPr/>
        </p:nvPicPr>
        <p:blipFill>
          <a:blip r:embed="rId2"/>
          <a:stretch/>
        </p:blipFill>
        <p:spPr>
          <a:xfrm>
            <a:off x="228600" y="1600200"/>
            <a:ext cx="4368960" cy="2895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0" y="14940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arrel Shif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mple design=small are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hift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eft up to 4 bi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laces 0’s in the lower bits after shift occurs = easier to implement arithmetic operation with the shifted resul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35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coder with passgate logic = uses fewer ga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es two inverters in series connected back to the 8:1 mux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6" descr="Crystal"/>
          <p:cNvPicPr/>
          <p:nvPr/>
        </p:nvPicPr>
        <p:blipFill>
          <a:blip r:embed="rId2"/>
          <a:srcRect l="57779" t="10221" r="0" b="51459"/>
          <a:stretch/>
        </p:blipFill>
        <p:spPr>
          <a:xfrm>
            <a:off x="2133720" y="2819520"/>
            <a:ext cx="4800600" cy="3789360"/>
          </a:xfrm>
          <a:prstGeom prst="rect">
            <a:avLst/>
          </a:prstGeom>
          <a:ln w="0">
            <a:noFill/>
          </a:ln>
        </p:spPr>
      </p:pic>
      <p:sp>
        <p:nvSpPr>
          <p:cNvPr id="341" name="Straight Connector 7"/>
          <p:cNvSpPr/>
          <p:nvPr/>
        </p:nvSpPr>
        <p:spPr>
          <a:xfrm flipV="1">
            <a:off x="5181480" y="3048120"/>
            <a:ext cx="0" cy="274320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Straight Connector 8"/>
          <p:cNvSpPr/>
          <p:nvPr/>
        </p:nvSpPr>
        <p:spPr>
          <a:xfrm>
            <a:off x="2590920" y="3048120"/>
            <a:ext cx="2590560" cy="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traight Connector 10"/>
          <p:cNvSpPr/>
          <p:nvPr/>
        </p:nvSpPr>
        <p:spPr>
          <a:xfrm>
            <a:off x="2590920" y="3048120"/>
            <a:ext cx="0" cy="68580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4" name="Straight Arrow Connector 13"/>
          <p:cNvCxnSpPr/>
          <p:nvPr/>
        </p:nvCxnSpPr>
        <p:spPr>
          <a:xfrm>
            <a:off x="2590920" y="3733920"/>
            <a:ext cx="838800" cy="2160"/>
          </a:xfrm>
          <a:prstGeom prst="straightConnector1">
            <a:avLst/>
          </a:prstGeom>
          <a:ln w="57240">
            <a:solidFill>
              <a:srgbClr val="ff248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8 Bit Array Multipl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kes the 8 LSB of the inputs and returns a 16 bit resul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mplemented using And gates, Half-Adders, and Full-Add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-6480" y="450720"/>
            <a:ext cx="1079640" cy="595656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1522440" y="6480"/>
            <a:ext cx="67834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PA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itially an AND gate with same inpu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witched to Tgate implementatio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590920" y="1828800"/>
          <a:ext cx="4495680" cy="3325680"/>
        </p:xfrm>
        <a:graphic>
          <a:graphicData uri="http://schemas.openxmlformats.org/drawingml/2006/table">
            <a:tbl>
              <a:tblPr/>
              <a:tblGrid>
                <a:gridCol w="1295280"/>
                <a:gridCol w="320040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S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69757e-2 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.33949 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248221e-8 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r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13250e-25 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x m x 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-41436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85723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racterist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Techni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Practi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p level ALU connec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per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tr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2736720" y="2432160"/>
            <a:ext cx="37609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534520" cy="65534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45720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before  reg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45720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to all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racterist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Techni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Practi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p level ALU connec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per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tr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ummary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Ques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6840" y="1882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mbedded Digital Signal Processor for PICo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MI 0.5 um technolog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ce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uffered the inputs through 2 series invert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rove the output through 4 parallel invert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4" descr="http://www.clemson.edu/ces/departments/ece/images/dream_jobs/circuit.jpg"/>
          <p:cNvPicPr/>
          <p:nvPr/>
        </p:nvPicPr>
        <p:blipFill>
          <a:blip r:embed="rId2"/>
          <a:stretch/>
        </p:blipFill>
        <p:spPr>
          <a:xfrm>
            <a:off x="6019920" y="2743200"/>
            <a:ext cx="2628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6840" y="1371600"/>
            <a:ext cx="4800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romises betwee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rea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lay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w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decisi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cused on delays in add/subtra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2" descr="http://img.archiexpo.com/images_ae/photo-g/design-hall-mirror-94175.jpg"/>
          <p:cNvPicPr/>
          <p:nvPr/>
        </p:nvPicPr>
        <p:blipFill>
          <a:blip r:embed="rId2"/>
          <a:srcRect l="25891" t="0" r="0" b="0"/>
          <a:stretch/>
        </p:blipFill>
        <p:spPr>
          <a:xfrm>
            <a:off x="5486400" y="1676520"/>
            <a:ext cx="3271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onent Heirarch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using compone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ubcircuits libra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early tested to ensure accurate resul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ean to prevent bugs or erro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lexible for future design modifica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76280" y="268200"/>
            <a:ext cx="8186760" cy="1401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Crystal"/>
          <p:cNvPicPr/>
          <p:nvPr/>
        </p:nvPicPr>
        <p:blipFill>
          <a:blip r:embed="rId2"/>
          <a:stretch/>
        </p:blipFill>
        <p:spPr>
          <a:xfrm>
            <a:off x="1943280" y="1882800"/>
            <a:ext cx="525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d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Sub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ift Left Logic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Pa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8b Multipl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http://www.ece.ucsb.edu/~parhami/images_folder/digits_arith.jpg"/>
          <p:cNvPicPr/>
          <p:nvPr/>
        </p:nvPicPr>
        <p:blipFill>
          <a:blip r:embed="rId2"/>
          <a:stretch/>
        </p:blipFill>
        <p:spPr>
          <a:xfrm>
            <a:off x="4495680" y="1371600"/>
            <a:ext cx="41626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2"/>
          <a:srcRect l="5319" t="9238" r="3329" b="9238"/>
          <a:stretch/>
        </p:blipFill>
        <p:spPr>
          <a:xfrm>
            <a:off x="2286000" y="1219320"/>
            <a:ext cx="4886280" cy="25146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3200400" y="3733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bit Mirror 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6" descr="http://img.search.com/thumb/5/5d/4-bit_ripple_carry_adder.svg/500px-4-bit_ripple_carry_adder.svg.png"/>
          <p:cNvPicPr/>
          <p:nvPr/>
        </p:nvPicPr>
        <p:blipFill>
          <a:blip r:embed="rId3"/>
          <a:stretch/>
        </p:blipFill>
        <p:spPr>
          <a:xfrm>
            <a:off x="2362320" y="4191120"/>
            <a:ext cx="4762440" cy="19047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6"/>
          <p:cNvSpPr/>
          <p:nvPr/>
        </p:nvSpPr>
        <p:spPr>
          <a:xfrm>
            <a:off x="342900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pple Carry 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mplemented using the same 1 bit full adders that we used with the 16b add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kes 2s complement of input B and adds to input 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verflow detect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3:28:10Z</dcterms:created>
  <dc:creator>Student</dc:creator>
  <dc:description/>
  <dc:language>en-US</dc:language>
  <cp:lastModifiedBy>Manoj</cp:lastModifiedBy>
  <dcterms:modified xsi:type="dcterms:W3CDTF">2010-05-03T06:24:05Z</dcterms:modified>
  <cp:revision>72</cp:revision>
  <dc:subject/>
  <dc:title>Crystal</dc:title>
</cp:coreProperties>
</file>